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ED065-D3C7-48AF-BD3D-3731A8B249AE}" type="datetime">
              <a:rPr b="0" lang="zh-CN" sz="1200" spc="-1" strike="noStrike">
                <a:solidFill>
                  <a:srgbClr val="000000"/>
                </a:solidFill>
                <a:latin typeface="Arial"/>
                <a:ea typeface="宋体"/>
              </a:rPr>
              <a:t>26/7/28</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8D46-5EA1-4826-A497-2814674D9FB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3F36-F7DF-4930-9575-DA931AF38117}"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89E2-62A5-44F2-9ED1-16FB7B081FC7}"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034CF-135F-4D09-BCF5-F8FF32462834}"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4EB6-40FF-4F12-B6C3-5C97B06FB665}"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E6F4-BF14-4BCA-BBEC-21C6AC573993}"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4E6B0-F02F-4F10-AFAB-C28C60FD779D}"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0DD23-92B2-4FBF-81CA-A263A7FCD670}"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25F1-FD5D-44AA-AC62-6617A74AC62B}"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D1E6-445B-468E-AF36-C5B9C8CE1A6A}"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B854-46CE-4327-A5DE-5A7C398C737C}"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7DD5F9-47F6-46AE-953B-AB4B804C50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44B28D-EB5D-43E9-B36B-F3F04F7B7D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0EAD416-4506-46A4-BD0B-901B61AE74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183B13F-D419-402E-B71A-EA5381BEF0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CBB428-B076-4790-91B7-F5199A8B86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E243E3-9433-486D-86A2-99722CD9BA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EC0BD2-6800-485E-9BFF-B05A147C71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8FA27E-5731-4658-B4A5-92E46FB818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1F091A-2D33-4454-AF1E-ED72D824D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30B002-2A0D-4668-93DC-017BC7007A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542C5F-5878-46C5-9515-0E59B5D724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8F8E60-4113-409E-A502-2BAF4A808E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6A587F-D706-4D5A-B0F6-F153CBD6DC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3F493F-0633-4210-AA38-5F0947A7A3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3CC557-3F9D-46FB-A742-288838EC1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E85D5F-24A9-4E1B-AF76-BDA4330D5C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D1A38B-E1EB-4632-97D3-7DF7D3FACC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23BE88-2032-4E65-9B36-B058EB8D34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098E03-14B4-4A05-A556-30883B517F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5898C6-A178-4DD7-8DF8-E3E07F3045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B4369E6-A853-49B4-82C4-79718976B9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219D2B-3E62-4768-B12B-5A585449CA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F1D93C-C6E1-4783-BE04-B7A7339D45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34534D-D67C-4557-A02D-0201AE692D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7DC0-0F20-4292-880C-AD343ED06F1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E627-8340-465F-BD76-514ACED713B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